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5DD-0C23-4C80-86E2-FF85D1B9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2B1-9DA5-42B2-989E-5755B7FB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302-8671-47A8-A506-B89BA5E9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980-35D2-4DB1-9FA2-1331A8C1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9BC-760B-456E-AEFB-CE971ED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615-17A8-4C37-AD0C-54B002C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4C5-1690-4C34-BCD2-853C807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CA4-6579-45DB-8A54-0626242B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582-C268-4042-8687-CEE216D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3EF-CB49-43E7-85E6-450B8D0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68E-E3BF-4B93-ACEB-4375262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EE7-F666-40CB-B6D5-A1E1FE6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a9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a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a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a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a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a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a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a9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a9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a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A633-4A16-4A2C-BB04-4A9E971FE83C}" type="slidenum">
              <a:rPr b="0" lang="hu-HU" sz="1400" spc="-1" strike="noStrike">
                <a:solidFill>
                  <a:srgbClr val="000a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a96"/>
                </a:solidFill>
                <a:latin typeface="Arial"/>
              </a:rPr>
              <a:t>Nagy, nagyobb, legnagyobb</a:t>
            </a:r>
            <a:endParaRPr b="0" lang="en-US" sz="60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a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A kis fehér négyzet nagyobb, mint a fekete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Igen? Nem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42920" y="2133720"/>
            <a:ext cx="2592360" cy="1296720"/>
            <a:chOff x="1042920" y="2133720"/>
            <a:chExt cx="2592360" cy="1296720"/>
          </a:xfrm>
        </p:grpSpPr>
        <p:sp>
          <p:nvSpPr>
            <p:cNvPr id="47" name=""/>
            <p:cNvSpPr/>
            <p:nvPr/>
          </p:nvSpPr>
          <p:spPr>
            <a:xfrm>
              <a:off x="1042920" y="2133720"/>
              <a:ext cx="1297080" cy="129672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2494080"/>
              <a:ext cx="576360" cy="57600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38560" y="2133720"/>
              <a:ext cx="1296720" cy="129672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98920" y="2494080"/>
              <a:ext cx="576000" cy="57600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08720" y="2133720"/>
            <a:ext cx="2592000" cy="1296720"/>
            <a:chOff x="5508720" y="2133720"/>
            <a:chExt cx="2592000" cy="1296720"/>
          </a:xfrm>
        </p:grpSpPr>
        <p:sp>
          <p:nvSpPr>
            <p:cNvPr id="52" name=""/>
            <p:cNvSpPr/>
            <p:nvPr/>
          </p:nvSpPr>
          <p:spPr>
            <a:xfrm flipV="1">
              <a:off x="6804000" y="2133720"/>
              <a:ext cx="1296720" cy="129672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164360" y="2494080"/>
              <a:ext cx="576000" cy="57600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08720" y="2133720"/>
              <a:ext cx="1297080" cy="1296720"/>
            </a:xfrm>
            <a:prstGeom prst="rect">
              <a:avLst/>
            </a:prstGeom>
            <a:solidFill>
              <a:srgbClr val="e6e6fa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868360" y="2494080"/>
              <a:ext cx="576360" cy="576000"/>
            </a:xfrm>
            <a:prstGeom prst="rect">
              <a:avLst/>
            </a:prstGeom>
            <a:solidFill>
              <a:srgbClr val="000a96"/>
            </a:solidFill>
            <a:ln w="93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a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a96"/>
                </a:solidFill>
                <a:latin typeface="Arial"/>
              </a:rPr>
              <a:t>A középső körök közül melyik a nagyobb?</a:t>
            </a:r>
            <a:endParaRPr b="0" lang="en-US" sz="4000" spc="-1" strike="noStrike">
              <a:solidFill>
                <a:srgbClr val="000a9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42920" y="1916280"/>
            <a:ext cx="1873440" cy="1728720"/>
            <a:chOff x="1042920" y="1916280"/>
            <a:chExt cx="1873440" cy="1728720"/>
          </a:xfrm>
        </p:grpSpPr>
        <p:sp>
          <p:nvSpPr>
            <p:cNvPr id="60" name=""/>
            <p:cNvSpPr/>
            <p:nvPr/>
          </p:nvSpPr>
          <p:spPr>
            <a:xfrm>
              <a:off x="1619280" y="2421000"/>
              <a:ext cx="720720" cy="72072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42920" y="263700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3280" y="191628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76360" y="3213000"/>
              <a:ext cx="431640" cy="4320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95640" y="1989000"/>
              <a:ext cx="431640" cy="4320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84360" y="2637000"/>
              <a:ext cx="43200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95640" y="3141720"/>
              <a:ext cx="431640" cy="43164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51640" y="1054080"/>
            <a:ext cx="2806560" cy="2876400"/>
            <a:chOff x="5651640" y="1054080"/>
            <a:chExt cx="2806560" cy="2876400"/>
          </a:xfrm>
        </p:grpSpPr>
        <p:sp>
          <p:nvSpPr>
            <p:cNvPr id="68" name=""/>
            <p:cNvSpPr/>
            <p:nvPr/>
          </p:nvSpPr>
          <p:spPr>
            <a:xfrm>
              <a:off x="6659640" y="2205000"/>
              <a:ext cx="720720" cy="72072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61080" y="105408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51640" y="184464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1640" y="1700280"/>
              <a:ext cx="100620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2852640"/>
              <a:ext cx="1006560" cy="100656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93080" y="2924280"/>
              <a:ext cx="1006200" cy="1006200"/>
            </a:xfrm>
            <a:prstGeom prst="ellipse">
              <a:avLst/>
            </a:prstGeom>
            <a:noFill/>
            <a:ln w="50760">
              <a:solidFill>
                <a:srgbClr val="000a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a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8:08:41Z</dcterms:created>
  <dc:creator/>
  <dc:description/>
  <dc:language>en-US</dc:language>
  <cp:lastModifiedBy>OKÉV</cp:lastModifiedBy>
  <dcterms:modified xsi:type="dcterms:W3CDTF">2006-11-03T13:17:08Z</dcterms:modified>
  <cp:revision>7</cp:revision>
  <dc:subject/>
  <dc:title>1. dia</dc:title>
</cp:coreProperties>
</file>